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5904-660B-4F9E-865F-CB321B2C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BB05-504E-4530-AA6D-56F73209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A408-CE0A-44BA-A3AA-EC5D93EC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4C64-341B-45B1-A9BE-1009FBB1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F313-1496-4947-91B6-9EF3C002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39CE-3E67-4AB7-87B2-E01F08EF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F5C2-C489-45F2-A667-2A00C11D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64A2-19C4-48C0-AEE1-680ADF42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9162-8CE8-4644-A8E5-AE14238D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DC71-4D85-4FE3-9108-55362429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BC65-134E-41A6-9942-733703EB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B11-0FE7-454A-A09F-43FBE00D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2CAE-9E35-4F98-8B7B-00BBDCE0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8E33-7DAB-4774-BD0E-ED4362E3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2235-9312-438F-95AA-AE9D5D04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D353-2DFE-45CD-8C8B-C54CE46B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1819-E185-45A1-8E5B-8ACB758B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3A36-56F3-4074-8BE2-48419296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6583-530B-41FB-A323-332CE057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B4D1-6DAC-412B-AEDD-9657ABE9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A28A-C989-4060-9D43-5CABD916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978-AD99-4FE8-AD7E-1E24C910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5A8B-142E-4B0B-B2F5-05D53922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FDEE-E774-4838-B589-15A7BBE6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7B69-3986-4D3A-8FDE-5AF8DFCCDFED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7A99-4A46-4C9A-9800-7529B59A18C3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4211640" y="189000"/>
            <a:ext cx="792000" cy="307080"/>
          </a:xfrm>
          <a:prstGeom prst="rect">
            <a:avLst/>
          </a:prstGeom>
          <a:solidFill>
            <a:srgbClr val="cc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0920" y="476280"/>
            <a:ext cx="2448000" cy="30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 SPELL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0920" y="836640"/>
            <a:ext cx="4249800" cy="307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ing the last conson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50920" y="1197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hould I double the last consonant of wor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50920" y="1628640"/>
            <a:ext cx="1441440" cy="441252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908000" y="1628640"/>
            <a:ext cx="3384720" cy="4523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the last consonan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has 1 syllable and ends 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wel + 1 consona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 – s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g – bigg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– stopp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 a stressed syll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 – controll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- beginn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wel + 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vel - trave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5580000" y="1628640"/>
            <a:ext cx="3384720" cy="44125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do not double the last consonant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 are two vowels or two consona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it ---wa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l --- coo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ng ---brin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ast syllable is not stress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t – visit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- devel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 w , x or 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w -   sho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x – box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– play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w - draw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50920" y="189000"/>
            <a:ext cx="25905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ing y to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0920" y="54936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should I change y to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79280" y="981000"/>
            <a:ext cx="2232000" cy="21420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 these 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627280" y="981000"/>
            <a:ext cx="2376360" cy="214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+change the y to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 word ends in a consonant + 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y – tri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ry – carri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y  - dri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 – fl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292720" y="981000"/>
            <a:ext cx="3240000" cy="192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do not change it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 in a vowel + 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– pla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y – bu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y – say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24000" y="3429000"/>
            <a:ext cx="2232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ing off the final 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468360" y="371628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 should I take the final e off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50920" y="4005360"/>
            <a:ext cx="2160360" cy="2253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700360" y="4076640"/>
            <a:ext cx="2663640" cy="2253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ve the e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sil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– writ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– u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some exceptio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 ___dy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e __ ly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5580000" y="4076640"/>
            <a:ext cx="2879640" cy="1604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do not remove the e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 is sil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__ see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 __ be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79280" y="189000"/>
            <a:ext cx="15843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ng 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692280"/>
            <a:ext cx="2952720" cy="30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should I add e 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000" y="1125360"/>
            <a:ext cx="2232000" cy="48481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276720" y="1197000"/>
            <a:ext cx="3240000" cy="4736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e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 ch , s , sh , x  or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sometimes  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ch __ wat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x __ box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__ do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__ g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ato __ potat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mato __ tomat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several exceptions, for examp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 __ ph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 __ rad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__ video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4:19:37Z</dcterms:created>
  <dc:creator>عبدالله &amp; محمد</dc:creator>
  <dc:description/>
  <dc:language>en-US</dc:language>
  <cp:lastModifiedBy>- </cp:lastModifiedBy>
  <dcterms:modified xsi:type="dcterms:W3CDTF">2007-02-17T15:10:26Z</dcterms:modified>
  <cp:revision>12</cp:revision>
  <dc:subject/>
  <dc:title>الشريحة 1</dc:title>
</cp:coreProperties>
</file>